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4A9-872A-402E-B426-2B0CBB72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6FB-99E6-4F7C-A3C0-426FF1E8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3B8-C049-4A16-8776-62ECD82B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15C-5979-44DC-8F9C-5A4F46D1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99E-B283-45D9-B93A-4066E7D3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48D-5ED5-4109-A409-C8F9F69F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9AC-6D0A-44FE-8AEF-B792EE7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6A1-2215-4BAD-8A2D-B1126966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59E-2B6D-41F9-BDDD-147AA16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844-CD79-45B3-BEAE-3D3C5D65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070-9615-4B25-BAA9-1D54E9E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2D7-2929-4E08-ADF7-706EA97F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37B-67F7-4039-923B-2A12897EF3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7280" y="1447920"/>
            <a:ext cx="284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8640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334120"/>
            <a:ext cx="914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241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3809880"/>
            <a:ext cx="1371600" cy="762120"/>
          </a:xfrm>
          <a:prstGeom prst="rect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17Z</dcterms:modified>
  <cp:revision>189</cp:revision>
  <dc:subject/>
  <dc:title>Slide 1</dc:title>
</cp:coreProperties>
</file>